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428D-A91B-4807-81F4-C7CF849C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4E0-B2DE-4203-9449-DC7670A0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319-3E1D-4BE8-9FA1-3F885934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E00B-2474-45BB-957B-FA79AD6C3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18E0-9618-4C41-918D-1DC3E736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8FE-1FC5-462F-A58D-652C5D61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BE4D-EC74-4C28-85AC-945E7324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4BF-0FE5-4E34-A9CE-220BF2AB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BFF5-15E3-419B-B5E8-0986B7A2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DB4-F3EE-4827-B69B-3BB8B7F5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7CB-9F9B-491A-AB86-8F55FA4F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07FC-2361-47EE-AB3E-6A508B15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1B1B-C116-4A51-B6BC-29FB8E64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6E90-98EC-4E92-85D4-A154FD20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69BE-6E7E-4897-81D4-7187DBB9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6B53-6354-4539-B169-48724C53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22B-4848-42AF-B1D6-699500F5C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242-5BE3-4BA5-86E2-A05E04C8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3FA-F778-4C61-8713-710E450FF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384-865A-4178-91F7-82F15A2D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9DB-2261-4823-80DD-D17A93A9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EB9-B8D0-4FC5-8586-B61388EB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0E4-86CD-48A9-9806-9CB415EA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CE6-D7B5-43B9-B234-21745DBF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8E82-E1BA-46CD-8698-7AB4755C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2B78-67C1-4A0F-99EB-937D8817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348-162A-40AF-A656-7084DF9D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079-31EE-4F72-A4DD-F936394F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B6C-FC3F-465A-BE23-469E3FDA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C99-D72D-4E21-A18C-8EC38978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AC7-164A-449A-BEE8-01630633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F09-1385-4C91-8DA2-5E5D21600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A72-DBEC-4097-9741-1B4263C3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133-046F-43EB-AB97-5BF10FA1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9F4-8781-4E32-B6BD-C4D8EFA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76E-C77D-41CB-822E-7F2CED2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4E8-90F1-42A9-95E3-5E2292B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943-C4C8-411A-A6FE-CB1715C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F78-2B49-4F1B-9352-E4EBCBB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AAB-2389-46B1-8661-A6162C5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7FB-8829-414B-A235-54A7284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CEF-085C-40E7-ABA3-12D2EEB2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115-84E5-4DB6-AC03-DDE4557E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8ED-F8F0-4B38-938A-3B76DDBA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B1F9-8DDB-42B8-8ED2-32769D9F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5B5-DCD4-431B-9C3E-07797EC5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64D0-4DD6-4C3A-875A-78B263C6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D66-CA02-448D-B320-0ED99E4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9647-8385-4430-97B0-B687C1F5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405B-0B86-4EC3-91B4-B91DD12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F842-159B-4136-BB5A-C189508A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41A-830A-4C1E-A9AE-E04E4722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D56-326C-45A2-9A53-4ED666F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1824-EB72-43A8-AFE3-CFA28BC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1E0-F23A-40F0-92F6-FBD9CF89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32D-FC75-4C47-9FD2-54573CB1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003B-BDAF-4EA5-8DC0-9519677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987B-02CC-42CD-9ADB-DD763B01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620D-3BBE-44F7-A92C-D540DB0C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67F7-DC3D-4FB2-B009-A5264FFF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FF63-DAFB-448A-AEA4-B6583BB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A65A-A5CD-46C6-B1EA-0E48EA92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76C5-1E30-4FEE-BA32-24480B8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726E-2DBD-4E82-9A80-8EF5EC4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41F1-E10C-4C12-9C52-0AB9C639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9AF3-955A-4109-8D49-E444D5C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D91D-3B13-4659-9C2B-9C61FA92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665B-E0A5-4217-B101-8C27DB5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0E5-91B5-4C53-9E61-4E4132983A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D13-4F10-4B27-A7DF-D01B7E862C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5929-8238-46FD-B223-9559114B98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539640" y="119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042920" y="3284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788000" y="522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.0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6600" y="2000160"/>
            <a:ext cx="8713800" cy="618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ероралну примен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слузокож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под притиск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примену на кож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1111320"/>
            <a:ext cx="8713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040200" y="2898720"/>
            <a:ext cx="3019320" cy="3270240"/>
          </a:xfrm>
          <a:prstGeom prst="ellips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4265640" y="288936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5238720" y="307008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5838840" y="366084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6045120" y="455292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5754600" y="536904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9"/>
          <p:cNvSpPr/>
          <p:nvPr/>
        </p:nvSpPr>
        <p:spPr>
          <a:xfrm>
            <a:off x="5084640" y="593892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"/>
          <p:cNvSpPr/>
          <p:nvPr/>
        </p:nvSpPr>
        <p:spPr>
          <a:xfrm>
            <a:off x="4110120" y="611028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"/>
          <p:cNvSpPr/>
          <p:nvPr/>
        </p:nvSpPr>
        <p:spPr>
          <a:xfrm>
            <a:off x="3346560" y="554364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048120" y="472608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"/>
          <p:cNvSpPr/>
          <p:nvPr/>
        </p:nvSpPr>
        <p:spPr>
          <a:xfrm>
            <a:off x="3579840" y="312264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4"/>
          <p:cNvSpPr/>
          <p:nvPr/>
        </p:nvSpPr>
        <p:spPr>
          <a:xfrm>
            <a:off x="3095640" y="380196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522440" y="283068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572080" y="2071800"/>
            <a:ext cx="296244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лековитог облика иако је лековита супстанца у облику раствора нестабилна (прашкови који се диспергују у води пре употреб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57120" y="1785960"/>
            <a:ext cx="33577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течног лековититог облика иако лековита супстанца није растворна у прописаном вехикулу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 flipV="1">
            <a:off x="468360" y="2998080"/>
            <a:ext cx="2436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6383880" y="3895560"/>
            <a:ext cx="24782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 пациј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204840" y="3009960"/>
            <a:ext cx="270036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е за примену на кожу и слузокож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3857760"/>
            <a:ext cx="21812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суспензије имају предност у односу на чврсте дозиране облике, када се жели брзо ослоба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лековите супстанц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 flipH="1">
            <a:off x="8532000" y="5027760"/>
            <a:ext cx="149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214200" y="5643720"/>
            <a:ext cx="25909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формулације облика са  депо деловањем (интрамускуларна инј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6143760" y="5572080"/>
            <a:ext cx="278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екциј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јатан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3492360" y="2435400"/>
            <a:ext cx="611280" cy="4809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5064120" y="2630160"/>
            <a:ext cx="270000" cy="3222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6097680" y="4049280"/>
            <a:ext cx="253800" cy="1033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 flipH="1" flipV="1">
            <a:off x="2123640" y="3516120"/>
            <a:ext cx="98604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4"/>
          <p:cNvSpPr/>
          <p:nvPr/>
        </p:nvSpPr>
        <p:spPr>
          <a:xfrm rot="769800">
            <a:off x="2249280" y="4592160"/>
            <a:ext cx="741240" cy="368280"/>
          </a:xfrm>
          <a:custGeom>
            <a:avLst/>
            <a:gdLst>
              <a:gd name="textAreaLeft" fmla="*/ 0 w 741240"/>
              <a:gd name="textAreaRight" fmla="*/ 741600 w 7412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5"/>
          <p:cNvSpPr/>
          <p:nvPr/>
        </p:nvSpPr>
        <p:spPr>
          <a:xfrm rot="603600">
            <a:off x="4830480" y="6159600"/>
            <a:ext cx="1238040" cy="2505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6"/>
          <p:cNvSpPr/>
          <p:nvPr/>
        </p:nvSpPr>
        <p:spPr>
          <a:xfrm rot="20484600">
            <a:off x="2943000" y="6046920"/>
            <a:ext cx="838080" cy="217440"/>
          </a:xfrm>
          <a:custGeom>
            <a:avLst/>
            <a:gdLst>
              <a:gd name="textAreaLeft" fmla="*/ 0 w 838080"/>
              <a:gd name="textAreaRight" fmla="*/ 838440 w 838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3"/>
          <p:cNvSpPr/>
          <p:nvPr/>
        </p:nvSpPr>
        <p:spPr>
          <a:xfrm>
            <a:off x="3040200" y="3108240"/>
            <a:ext cx="3019320" cy="327024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4265640" y="30988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5238720" y="32796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5838840" y="387036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045120" y="476244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5754600" y="557856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5084640" y="614844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4110120" y="63198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1"/>
          <p:cNvSpPr/>
          <p:nvPr/>
        </p:nvSpPr>
        <p:spPr>
          <a:xfrm>
            <a:off x="3346560" y="575316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3048120" y="49356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3"/>
          <p:cNvSpPr/>
          <p:nvPr/>
        </p:nvSpPr>
        <p:spPr>
          <a:xfrm>
            <a:off x="3579840" y="33321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"/>
          <p:cNvSpPr/>
          <p:nvPr/>
        </p:nvSpPr>
        <p:spPr>
          <a:xfrm>
            <a:off x="3095640" y="40114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1522440" y="30402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181560" y="2500200"/>
            <a:ext cx="296244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а могућност редисперзије чврсте фазе, што може узроковат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ачност у дозирањ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000080" y="1785960"/>
            <a:ext cx="2967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су нестабилне. Пре или касније долази до таложења чврсте ф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 flipV="1">
            <a:off x="468360" y="32083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 flipH="1">
            <a:off x="8532000" y="5237280"/>
            <a:ext cx="1494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3714840"/>
            <a:ext cx="25909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кробиолошке контаминаци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357960" y="5000760"/>
            <a:ext cx="2786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вискозитет препарата сувише велики отежано је изливање из боце или пролазак кроз инјекциону иг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>
            <a:off x="3492360" y="2860560"/>
            <a:ext cx="36720" cy="7207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867280" y="3508200"/>
            <a:ext cx="270000" cy="322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 flipV="1">
            <a:off x="1979640" y="4300200"/>
            <a:ext cx="98568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2"/>
          <p:cNvSpPr/>
          <p:nvPr/>
        </p:nvSpPr>
        <p:spPr>
          <a:xfrm rot="603600">
            <a:off x="4830480" y="6369120"/>
            <a:ext cx="1238040" cy="25092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0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400" y="2142720"/>
            <a:ext cx="8397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испуни добро формулисан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, мирис и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 реолошке карактеристике значајне 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 размазивост и задржавање на кожи (спољашња при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 кроз инјекциону иглу без запушава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мора остати довољно дуго хомогена, нарочито између мућкања контејнера и изливања потребне количине – дозе л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током мировања – чувања суспензије ствара седимент он треба да се лако ресуспендује – редиспергује лаганим мућка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нзија треба да буде довољно густа (вискозна) како би се смањила брзина таложења честица, али вискозитет не сме бити тако велики да омета примену препа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реба да су малих величина униформне дистрибуције, како би препарат имао гладак, елегантан изглед, без видљиве грубе текс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је формулисати идеалну суспензију која је физ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 (свака честица треба да је стално суспен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ој фази). Зато се 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боља хом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 таложе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исперговање лаганим мућк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вискоз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дисперговане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доћи до формирања компактног талога - кеиковање. То се постиже израдом флокулованих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3840" y="2060280"/>
            <a:ext cx="892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стабилност суспензија утичу следећи фактор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електрокинетички фено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еличина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вашење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дефлокуловано и флокуловано стање (суспенз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) међуповршинска својства суспендованих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исперговане честице суспензије делује сила гравита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ед чега долази до седимен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 је смањити брзину таложењ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ефицијент седимент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они 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 за квантификацију седиментације суспендованих чес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однос волумена седиментационог слоја (висина исталоже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упног волумена суспензије (почетна висина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x/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028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02896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е суспензије има вредност мању од 1, а пожељно је да буде близу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магистрално израђене суспенз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1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индуструјски произведене 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4250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чврста-течна фаза постоје привлачне и одбојне силе, а да ли ће се честице међусобно привлачити или одбијати у течном медијуму зависи од тога које силе преовладавај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 силе с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, а одбојне настају као последица електронабоја на честицам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о наелектрисање честице супстанце узроковано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м адсорпцијом јона из вехикулума (јон додат течном медијуму, водоников или хидроксилни јон ако је у питању вод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јом површинских група дисперзне фазе - укупно наелектрисање је у функцији рН вредности вехикул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424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у, течни, грубо дисп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, двофазни системи и представљају дисперзије једне или више чврстих супстанци у неком течн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или неводе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у у коме се не раства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ја се диспергује назива се раздељена (распршена) фаза, дисперзна фаза, унутрашња, дисконтинуирана или отворена ф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у којој је извршено дисперговање назива се дисперзно средство, спољашња, континуирана или затворена фаза, а најчешће вехикул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суспенз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тип препарата (лековити облик полидисперзног типа, нпр. маст типа суспенз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97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2296800"/>
            <a:ext cx="410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дисперзних система зависи од наелектрисањ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наелектрисања одређује се мерењем електрофоретске покретљивости честица у електричном пољу – мерењ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та 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600" y="2205000"/>
            <a:ext cx="4038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а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ESTICA"/>
          <p:cNvPicPr/>
          <p:nvPr/>
        </p:nvPicPr>
        <p:blipFill>
          <a:blip r:embed="rId1"/>
          <a:stretch/>
        </p:blipFill>
        <p:spPr>
          <a:xfrm>
            <a:off x="5105520" y="2781360"/>
            <a:ext cx="40384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0080" y="2187720"/>
            <a:ext cx="4597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честице потенцијал  је максималан, затим нагло опада. Идући у правци главнине вехикулума потенцијал опада, расподела наелектрисања  је уједначена (једнако заступљено позитивно и негативно наелектрисањ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е честице ће се у електричном пољу кретати према електроди супротног наелектрис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 на тој равни назива се електрокинетички или зета потенцијал (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CESTICA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4120" y="167292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дисперзије и агрегације могу се објаснити силама интеракције међу диспергованим честица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научника (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jaquin, Landau, Verwe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w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учавала је к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титативну теорију интеракције између диспергованих честица – по њима названа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предвиђа и објашњава могуће интеракције честица у дисперзним системима (колоидни раствори, суспензије, емулзије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матрају се два основна типа сила – привлачне Van der Waal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 силе и електростатичке одбојне си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5200" y="78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DLVO"/>
          <p:cNvPicPr/>
          <p:nvPr/>
        </p:nvPicPr>
        <p:blipFill>
          <a:blip r:embed="rId1"/>
          <a:stretch/>
        </p:blipFill>
        <p:spPr>
          <a:xfrm>
            <a:off x="96840" y="166680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6480" y="1268280"/>
            <a:ext cx="454644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767120" y="1809720"/>
            <a:ext cx="39816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ачењ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мању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а удаљеношћу међу честицама; сил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при малим и велики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-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електростатичког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бијањ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експоненцијално смањује с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шћу; силе одбијања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умереним 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BA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интеракција између д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чење честица је најизраженије када су честице врло близу, у примарном минимуму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 извесној удаљености, секундарни миниму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2771640" y="2332080"/>
            <a:ext cx="359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DLVO"/>
          <p:cNvPicPr/>
          <p:nvPr/>
        </p:nvPicPr>
        <p:blipFill>
          <a:blip r:embed="rId1"/>
          <a:stretch/>
        </p:blipFill>
        <p:spPr>
          <a:xfrm>
            <a:off x="669960" y="870120"/>
            <a:ext cx="4754520" cy="585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8840" y="471600"/>
            <a:ext cx="4322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3216240" y="1535040"/>
            <a:ext cx="3683160" cy="5079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0" y="620640"/>
            <a:ext cx="335592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716360" y="1123920"/>
            <a:ext cx="4176720" cy="69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примарног минимума Е1 је велика и ако се честице њему приближе тешко  се одвајају (кеиковање сист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њим удаљеностима преовладавају одбојне силе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честица је велика и оне услед одбијања егзистирају свака за себе у вехикулуму (дефлокуловано стање). Али увек постоји опасност да се услед судара честица, оне приближе исувише једна другој, при чему долазе у област примарног минимума, преовладавају привлачне силе и ствара с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ктан агломер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честице на извесној удаљености, у другом енергетском минимуму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овладавају привлачне силе, али се честице могу лако раздвојити, јер је потенцијална енергија Е2 мала (флокулација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65080" y="115560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967120" y="132732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440320" y="1052640"/>
            <a:ext cx="301140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и флокуловане 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6436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суспензије –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зета потенцијал (мера потенцијала на површини честице) им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у апсолутну вредн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бојне силе између две честице надјачавају привлачне и у одређеном временском периоду, честице остају појединачно распршене, споро се таложе, граница између талога и супернатанта није оштра, суспензије имају леп изгл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ом ипак долази до таложења, честице се густо пакују, исувише приближавају (област примарног минимума) и снажно привлаче - настаје талог (кеиковање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апсолутна вредност зета потенцијала честица смањ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владава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n der Waals-ov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. Честице се приближавају једна другој, формирају растресите агрегате, који се означавају као флокуле (структура налик гроз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обијају се стабилне флок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ција суспензије се може контролисати додатком супстанци које јонизују тако да су настали јони супротног наелектрисања од наелектрисања диспергованих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ефлокуловане суспензије          Флокуловане суспензије</a:t>
            </a:r>
            <a:br>
              <a:rPr sz="2400"/>
            </a:b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557360"/>
          <a:ext cx="8353440" cy="5067360"/>
        </p:xfrm>
        <a:graphic>
          <a:graphicData uri="http://schemas.openxmlformats.org/drawingml/2006/table">
            <a:tbl>
              <a:tblPr/>
              <a:tblGrid>
                <a:gridCol w="4079880"/>
                <a:gridCol w="42735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су у суспензији међусобно одвој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у суспензији формирају лабаве агрега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мала, пошто се честице таложе појединачно, а величина им је м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велика, пошто се честице таложе као флокуле (агрегати чес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5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спо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бр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2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је веома густо пакован. Преовладавају одбојне силе међу честицама и формира се компактан талог, који је веома тешко, а некад и немогуће редиспергова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нису међусобно повезане јаким везама и не формира се компактан и густ талог. Талог је растресит и лако се редиспергу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лепог изгледа, јер честице остају суспендоване дуже време. Граница између талога и супернатанта ни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неприхватљивог изгледа, јер се честице брзо таложе. Граница између талога и супернатанта 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нестабилан) </a:t>
                      </a:r>
                      <a:r>
                        <a:rPr b="0" lang="sr-C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прихватљив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стабилан) прихватљив систе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е и међуповршинска својства суспендованих чести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080" y="1971720"/>
            <a:ext cx="83422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су честице мање брзина таложења је спорија. Међутим, ситније честице имају већу специфичну површину, што условљава повећање слободне површинске енергије која систем чини термодинамички нестабил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еже да се регрупишу и смање специфичну површину а тиме и слободну површинску енерг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аквом систему може доћи до агломерације – флокулације или агрегације (кеиковања) у циљу постизања термодинамички стабилног ста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ски напон могуће је смањити додатком површински активних материја и тако стабилизовати суспенз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шење че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6720" y="1844640"/>
            <a:ext cx="8423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блем приликом дисперговања прашкастих супстанци је квашење честица чврсте фаз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 је адсорбовање ваздуха на површину дисперзне фазе и чињеница да је чврста површина хидрофобна (уколико се ради о води као вехикулум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ао квашења или контактни угао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Ɵ)</a:t>
            </a:r>
            <a:r>
              <a:rPr b="0" lang="sr-Latn-C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који заклапа честица дисперзне фазе са површином вехикул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&lt;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чврста супстанца се добр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90 – чврста супстанца се тешк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адсорбују на површини честица, смањују међуповршински напон и смањују контактни уга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ПАМ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LB: 7 -9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глицерол, хидрофилни полимер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суспензије најчешће су намењене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у примену (боља биолошка расположивост у односу на чврсте дозиране обли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 примену (интрамускуларно или субкута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 примен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на кожу (суспензија као резервоар лека у трансдермалном фластер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у отворе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у примену у облику аерос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спензије се убрајају и препарати припремљен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у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ве суспензије), који се непосредно пре употр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 у одговарајућем вехикул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суспензија завис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– типа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 суспензије – утиче на редослед додавања компоненти, поједине фазе израде треба извести уз загр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израђује – магистрална израда или индустријска производ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а 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рионику са писти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 и просејавање чврст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мешавина нерастворних чврстих компоненти меша се са средством за квашење, другим помоћним супстанцама и делом вехикулума до формирања хомогене глатке пасте (концентрат суспензи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растворне супстанце се растварају у другом делу раствара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/и се уз мешање пистилом додаје/у у концентрат суспен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чистог растварача оставља се за испирање тарионика и пистила приликом преношења препарата 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отребно препарат допунити до прописане масе/волу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производњ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2360" y="1884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у индустријској производњи суспенз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би требало да 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ја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 вехикул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ње нерастворних супстанци у вехикулу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остал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и сигнир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AutoShape 4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293" name="AutoShape 5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59752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, антиоксида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5520" y="217656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н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акан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ан гу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силикати (лако хидратишу, апсорбују до 12 пута више воде од своје мас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-алуминијум силик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 силицијум диоксид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il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240" y="2133720"/>
            <a:ext cx="4038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и деривати целуло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метилцелулоза-натрију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ристална 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56760" y="1056960"/>
            <a:ext cx="8318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ршинс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ј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LB 7-9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исорбати и сорбитан естри за оралне суспензије; натријум-лаурил сулфат за дерматолошке суспензије; леци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лисорбати за парентералне суспенз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ои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сантан гума, трагаканта, алгинат, деривати целул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шај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лицерол, алкохол и пропиленглик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 који омогућавају стварање лабавих агрегата чест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јум-лаурил сулфат, бензалконијум хлорид, Полисорбат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ектроли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хлорид, натријум цитрат, калијум дихидроген фосфат, натријум дихидроген фосфат, натријум хлор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ме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, трагак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аск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ињ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4"/>
          <p:cNvSpPr/>
          <p:nvPr/>
        </p:nvSpPr>
        <p:spPr>
          <a:xfrm>
            <a:off x="468360" y="1197000"/>
            <a:ext cx="84247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о се додају воденим, вишедозним суспен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конзерванси: деривати пара-хидроксибезоеве киселине (парабени), соли сорбинске киселине, хлоркрез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конзерванса зависи првенствено од пута примене сусп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и би требало да задовољи конзерван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осталим компонентама препарата и амбала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 спектар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боју ни м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е фармакопе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, паковање, дистрибуција и чување суспензија мора да ос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микробиолошки квалит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– категорија 1; за спољашњу примену – категорија 2; за орал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кталну примену – категорија 3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1062000"/>
            <a:ext cx="821844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95280" y="177336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антиоксиданси: бутилхидроксианизол, бутилхидрокситолуол, естри галне 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ње укуса се постиже најчешће додатком шећ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боје: прехрамбен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пуфери: фосфатни и цитратн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9280" y="1557360"/>
          <a:ext cx="8856720" cy="51116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ШЕЊЕ ПРОБЛ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ИКОВ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ОВАНА СУСПЕНЗ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САЊЕ ФЛОКУЛОВАНЕ СУСПЕН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ГУСТИНЕ И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ОРФИ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ТРЕМНЕ РАЗЛИКЕ У ВЕЛИЧИНИ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ОНЦ.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Е ПРОМ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МЕЂУПОВРШИНСКОГ НАП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НАЧАВ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ЗАШТИТНИХ КОЛО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ЕРАНА КОНЦ. ФЛОКУЛАН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, ФЛОКУЛАНАТА,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БИОЛОШКА РАСПОЛОЖИВ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СОРПЦИЈА ЛЕКА НА САСТОЈКЕ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ВИШЕ СИТ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МПАТИБИЛНОСТИ САСТОЈАК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КТИВ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НИЈЕ ХОМОГ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ЈАЦИЈЕ У ВЕЛИЧИНИ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КЦИЈ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ТЕХНОЛОШКОГ ПОСТУПКА ИЗРАДЕ (МЕШАЊ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413000"/>
          <a:ext cx="8893080" cy="5207040"/>
        </p:xfrm>
        <a:graphic>
          <a:graphicData uri="http://schemas.openxmlformats.org/drawingml/2006/table">
            <a:tbl>
              <a:tblPr/>
              <a:tblGrid>
                <a:gridCol w="3011400"/>
                <a:gridCol w="3011400"/>
                <a:gridCol w="287028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УЗ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РЕШЕЊЕ ПРОБЛ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73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О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ФОБ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ВОЉНО КВАШЕ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ПОДЕСНОГ КВАСЕЋЕГ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ВАЊЕ У ВИШКУ ХИДРОФИЛНОГ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</a:t>
                      </a: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АН ПУФ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РАДЊА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БИОЛОШКА КОНТАМИН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ПУФЕР ВЕЋЕГ КАПАЦИТ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ЗЕРВА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1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РЕДИСПЕРЗИБИЛ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ЛОКУЛОВАН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ЈЕДНАЧЕНА ВЕЛИЧИНА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АК ФЛОКУЛ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09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ДГОВАРАЈУЋЕ НАЕЛЕКТРИСАЊ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ДА ТИКСОТРОПНОГ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БОЈЕ,МИРИСА И УКУ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ЈЕНА РЕАКЦИЈА САСТОЈ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НА БО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МИЈСКА РЕА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ФОРМУЛАЦИЈЕ ( ПОСЕБНО БОЈ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 ОСЛОБОДИТИ ВАЗДУ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КОРИГЕ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351640" cy="68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, величина честица у фармацеутским суспензијама износи 0,1 – 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најчешће се креће у опсегу 1 –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суспензија примењује на слузницу ока или у парентералном облику постоје посебни захтеви – величина честица је најчешће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гу бити и веће, али не преко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адржавати супстанце врло ја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е дају општи пропис за израду и 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течне издају се са напоме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 употребе промућка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треба потврд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, хемијску и микробиолошку 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о делов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а испитивања с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величине чест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успензионог коефи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еђивање зета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едисперзибил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еолошких својстава – мерењем вискоз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Н вр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адржаја активне супста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брзине растварања лековите супстанце из пре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(стерилност или микробиолошка чисто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s://www.youtube.com/watch?v=3Jj8WCJB4OI&amp;ab_channel=NicholasBackst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4038480" cy="4526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48320" y="2287080"/>
            <a:ext cx="40384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357120" y="12859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спенз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или водени раств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мешају са водом (глицеро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пропиленглик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не мешају са водом (биљ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а уља, синтетски ест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ралне суспензије користи се искључиво вода, док се за остале путеве апликације могу користити и други вехикулу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вехикулума зависи од физичко-хемијских особина лековите супстанце, пута примене,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општу монографију з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чни лековити препарати з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им монографијама других препарата наводи да ти лековити облици могу бити и препарати типа суспенз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приме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(gut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тур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 н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слузокожу 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гале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ц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и Ph. Eur. 7.0 н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опш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суспензија већ се у оквиру других монографија наводи да ти лековити облици могу бити и препарати типа суспензиј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342864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ер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билне табл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м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1214280"/>
            <a:ext cx="82296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лековити облици типа суспензија за примену на слузокожу 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cionica</cp:lastModifiedBy>
  <dcterms:modified xsi:type="dcterms:W3CDTF">2022-10-19T10:36:50Z</dcterms:modified>
  <cp:revision>2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5b44249e-7a87-427d-a7cd-f32d73985abf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50:37Z</vt:lpwstr>
  </property>
  <property fmtid="{D5CDD505-2E9C-101B-9397-08002B2CF9AE}" pid="9" name="MSIP_Label_a59b6cd5-d141-4a33-8bf1-0ca04484304f_SiteId">
    <vt:lpwstr>38ae3bcd-9579-4fd4-adda-b42e1495d55a</vt:lpwstr>
  </property>
</Properties>
</file>